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27E-657D-4657-8180-7FCBC6BC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96D-5683-4642-BD37-FF49D180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E86-EBF3-4266-8073-908E23E1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57D-CAEF-46C8-BE16-ACD15C87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E3B7-47FC-4110-8D25-A3CC5DD9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055-170D-4961-9DF4-93708248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9F2-ECB1-41EE-967B-AC05A4B3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13A-1691-4D49-82E7-BC729C14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72D-4136-4CC8-93A1-B1119BB7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72D-B2C2-4F80-A84F-C3736137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2D2-E4A5-499D-B301-42F607A2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85A-13D1-4F68-BB0F-3C8F1EF8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CB88-ECC1-494D-BAD6-BDF6E99BD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755200" cy="566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3975120" cy="63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5"/>
          <a:stretch/>
        </p:blipFill>
        <p:spPr>
          <a:xfrm>
            <a:off x="896760" y="3860640"/>
            <a:ext cx="3530880" cy="6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6"/>
          <a:stretch/>
        </p:blipFill>
        <p:spPr>
          <a:xfrm>
            <a:off x="34920" y="5300640"/>
            <a:ext cx="45640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642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شر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3"/>
          <a:stretch/>
        </p:blipFill>
        <p:spPr>
          <a:xfrm>
            <a:off x="231840" y="981000"/>
            <a:ext cx="8634240" cy="5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8605800" cy="134136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324000" y="1628640"/>
            <a:ext cx="8569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ؤية الله عز وجل والدليل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5"/>
          <a:stretch/>
        </p:blipFill>
        <p:spPr>
          <a:xfrm>
            <a:off x="2771640" y="2276640"/>
            <a:ext cx="6121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13"/>
          <a:stretch/>
        </p:blipFill>
        <p:spPr>
          <a:xfrm>
            <a:off x="539640" y="2276640"/>
            <a:ext cx="81360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3240"/>
            <a:ext cx="9132840" cy="12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97200" y="4653000"/>
            <a:ext cx="3568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95400" y="828720"/>
            <a:ext cx="8983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75640" cy="460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4680" y="888840"/>
            <a:ext cx="9144000" cy="7700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00536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يسر إلى طريق الجنة من يشاء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4935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ن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954000"/>
            <a:ext cx="3601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 غير المؤمنين وطريق المؤمن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43700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516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وم القيامة نجمع جميع الخل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نام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468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العب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هم إلى دار السلام ويسر سلوك طريقها وهدى من جد في طل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ؤية المؤمنين لربهم جل وعلا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رؤية المؤمنين لربهم جل وعلا في الآخرة 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61620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جازي على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ثلها من غير تضعي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0784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تورثه من حسرة وندامة وما توجبه من خسر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456876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البعث والجز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2484360" y="3030480"/>
            <a:ext cx="6335640" cy="40320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179280" y="506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بلاغة القرآن الكري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رض مشاهد القيامة وتصوير أحوال الآخرة كأنها رأي الع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53896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عبده المشرك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بعبادتهم وسيكون عدواً لهم ويتبراً منهم يوم القي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6027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بادة غير الله سواء كان المعبود نبياً أو ولياً أو حجر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67096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4000" y="342900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ا من سوء السيئة وما تورثه من حسرة وندامة وما توجبه من خسر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7T06:03:02Z</dcterms:modified>
  <cp:revision>1938</cp:revision>
  <dc:subject/>
  <dc:title>عرض تقديمي في PowerPoint</dc:title>
</cp:coreProperties>
</file>